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5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578-E896-40F9-AB4D-03F70D2F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EE6-8F5F-4428-94A7-CE3FE340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201-FD4D-45C2-8B6C-1A9EDC75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084-482C-472F-8E0F-D8E45847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62C-80AF-48A0-BA37-9AF06E8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6A2-494E-4FB7-B12B-BEE54DD9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430-36BD-4872-8DD1-6D91B60D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4BA-B42E-415E-A151-D476EF9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FC2-7F12-485F-9063-741EE772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A71-8057-40E2-A7DA-6C90E50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7D4-1600-403F-97C5-BC001E4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E71-7E15-4F18-94D3-08B75FB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979-1160-42DF-9EA7-605B4104C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5360" y="1044720"/>
            <a:ext cx="952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Great San Francis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arthquake and Fire of 1906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2971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iv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391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623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2057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2057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36640" y="164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21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5120" y="2206800"/>
            <a:ext cx="579096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391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1824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946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137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438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230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8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664080" y="2803680"/>
            <a:ext cx="18144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3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1828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658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417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2286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614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3132360" cy="313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14600" cy="911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09680" y="4343400"/>
            <a:ext cx="18194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133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0592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186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39020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1T08:02:48Z</dcterms:created>
  <dc:creator>User</dc:creator>
  <dc:description/>
  <dc:language>en-US</dc:language>
  <cp:lastModifiedBy>Rutherford County Schools</cp:lastModifiedBy>
  <dcterms:modified xsi:type="dcterms:W3CDTF">2007-04-22T18:52:51Z</dcterms:modified>
  <cp:revision>14</cp:revision>
  <dc:subject/>
  <dc:title>No Slide Title</dc:title>
</cp:coreProperties>
</file>